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0BAE-C402-4476-8150-5986F1C02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3F04-1807-4177-95D9-0CE844C7E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7F0E-34EB-4492-BDFD-5AD2E970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BB08-5CE3-4D7E-AA31-34D4CF1F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8361-DDDA-462A-A81E-4B157745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F9CA-4C09-4FC9-859E-25D09DFB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8491-8AB5-4DFC-A2D9-EE2DC202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8E72-BC90-4A93-8BE1-FC2BE975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D8EF-1459-4902-B396-ABAFBEC6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EC42-C06A-4660-A8CB-D5FDB96A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47B4-AF20-4A18-B699-8569D3F6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C824-BD25-43E1-AC81-D826E654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14D8-64BC-4ED7-8EB6-E8CB6120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4BFA-16DA-4EBE-BC82-3D949831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6ABB-9EC1-4898-B76C-BCD515782D9B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Фармакологија и токсикологија за стоматологију – 7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оф. др Слободан Јанкови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00000"/>
                </a:solidFill>
                <a:latin typeface="Comic Sans MS"/>
              </a:rPr>
              <a:t>Бета-лактамски антибиотиц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 бета-лактамске антибиотике спадају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ницилини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цефалоспорини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онобактами 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рбипене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00000"/>
                </a:solidFill>
                <a:latin typeface="Comic Sans MS"/>
              </a:rPr>
              <a:t>Пеницилин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1"/>
          <p:cNvGraphicFramePr/>
          <p:nvPr/>
        </p:nvGraphicFramePr>
        <p:xfrm>
          <a:off x="1214280" y="1785960"/>
          <a:ext cx="6897960" cy="45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785960"/>
                    <a:ext cx="689796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одела пеницилин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Comic Sans MS"/>
              </a:rPr>
              <a:t>Природни пеницилини Г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бензилпеницилин) и В (феноксиметилпеницилин). Они су јако активни против грам-позитивних и грам-негативних кока, али их бета-лактамаза лако разлаж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Comic Sans MS"/>
              </a:rPr>
              <a:t>Пеницилиназа-резистентни пеницилини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нафцилин, оксацилин, клоксацилин, диклоксацилин). Они имају мању јачину дејства од прве групе, али делују и на резистентне сојев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Comic Sans MS"/>
              </a:rPr>
              <a:t>Пеницилини са широким спектром дејства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ампицилин, амоксицилин, бакампицилин). Они делују и на грам-негативне бактерије, али их пеницилиназа инактивир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Comic Sans MS"/>
              </a:rPr>
              <a:t>Пеницилини са проширеним спектром дејства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карбеницилин, тикарцилин, азлоцилин, мезлоцилин, пиперацилин). Они делују и на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Pseudomonas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Proteus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Enterobacter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Klebsiella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-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репарати пеницилин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57120" y="1500120"/>
          <a:ext cx="8358120" cy="4581720"/>
        </p:xfrm>
        <a:graphic>
          <a:graphicData uri="http://schemas.openxmlformats.org/drawingml/2006/table">
            <a:tbl>
              <a:tblPr/>
              <a:tblGrid>
                <a:gridCol w="2500560"/>
                <a:gridCol w="2428560"/>
                <a:gridCol w="3429000"/>
              </a:tblGrid>
              <a:tr h="608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Л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РАЛНА ДО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АРЕНТЕРАЛНА ДО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еницилин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- 20.000.000 ИЈ и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рокаин- пеницилин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00.000 ИЈ/12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часов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и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ензатин- пеницилин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200.000 ИЈ и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еницилин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00 мг/6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кса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00 мг/6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,5 г/6 часова и.в., и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локса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50- 500 мг/6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иклокса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50 мг/6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Наф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 г/6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 г/6 часова и. м., и. 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мпи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00 мг- 1г/6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- 12 г (подељено у четири дозе) и.м. и.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мокси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50- 500 мг/8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арбени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 г/6 часова и.м., и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Тикар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0- 300 мг/кг и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зло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 г/6 часова и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ипера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 г/6 часова и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Нежељена дејства пенцилин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c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Најчешће нежељено дејство је </a:t>
            </a:r>
            <a:r>
              <a:rPr b="1" lang="en-US" sz="2200" spc="-1" strike="noStrike">
                <a:solidFill>
                  <a:srgbClr val="c00000"/>
                </a:solidFill>
                <a:latin typeface="Comic Sans MS"/>
              </a:rPr>
              <a:t>алергија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на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пеницилине. Она може бити по било ком од 4 типа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алергијских реакција, али је најчешћи први тип,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анафилактичка реакција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550"/>
              </a:spcBef>
              <a:buClr>
                <a:srgbClr val="c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Ампицилин у 5% болесника изазива </a:t>
            </a:r>
            <a:r>
              <a:rPr b="1" lang="en-US" sz="2200" spc="-1" strike="noStrike">
                <a:solidFill>
                  <a:srgbClr val="c00000"/>
                </a:solidFill>
                <a:latin typeface="Comic Sans MS"/>
              </a:rPr>
              <a:t>макулопапуларни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c00000"/>
                </a:solidFill>
                <a:latin typeface="Comic Sans MS"/>
              </a:rPr>
              <a:t>раш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који не представља алергијску реакцију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550"/>
              </a:spcBef>
              <a:buClr>
                <a:srgbClr val="c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Интратекална примена пеницилина је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контраиндикована јер у већим концентрацијама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изазива </a:t>
            </a:r>
            <a:r>
              <a:rPr b="1" lang="en-US" sz="2200" spc="-1" strike="noStrike">
                <a:solidFill>
                  <a:srgbClr val="c00000"/>
                </a:solidFill>
                <a:latin typeface="Comic Sans MS"/>
              </a:rPr>
              <a:t>конвулзије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(делује као антагонист глицина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и ГАБА-е)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550"/>
              </a:spcBef>
              <a:buClr>
                <a:srgbClr val="c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Код примене већих доза пеницилина Г интравенски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могућа је појава </a:t>
            </a:r>
            <a:r>
              <a:rPr b="1" lang="en-US" sz="2200" spc="-1" strike="noStrike">
                <a:solidFill>
                  <a:srgbClr val="c00000"/>
                </a:solidFill>
                <a:latin typeface="Comic Sans MS"/>
              </a:rPr>
              <a:t>хипернатремије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c00000"/>
                </a:solidFill>
                <a:latin typeface="Comic Sans MS"/>
              </a:rPr>
              <a:t>хиперкалемије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зависно од тога да ли је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примењени препарат у виду соли натријума или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калијум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14200" y="214308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БЕЗБЕДИТИ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ПРОХОДНОСТ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ДИСАЈНИХ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ПУТЕ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А ПОСТАВИТИ У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ЛЕЖЕЋ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ПОЛОЖАЈ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И ПОДИЋИ НОГ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(АКО ЈЕ БЕЗ СВЕСТИ ИЛИ ПОВРАЋА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НДА Г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ТРЕБА ПОСТАВИТИ У „КОМА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ЛОЖАЈ“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8548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Comic Sans MS"/>
              </a:rPr>
              <a:t>ИНТРАМУСКУЛАРНА ИЊЕКЦИЈА НЕРАЗБЛАЖЕНОГ </a:t>
            </a:r>
            <a:r>
              <a:rPr b="1" lang="sr-CS" sz="2000" spc="-1" strike="noStrike" u="sng">
                <a:solidFill>
                  <a:srgbClr val="c00000"/>
                </a:solidFill>
                <a:uFillTx/>
                <a:latin typeface="Comic Sans MS"/>
              </a:rPr>
              <a:t>АДРЕНАЛИНА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(1:1000, тј. 1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l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ОДРАСЛИ И ДЕЦА СТАРИЈА ОД 12 ГОДИНА: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0,2 ДО 0,5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l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(0,2 ДО 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5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ДЕЦА МЛАЂА ОД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ГОДИНА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0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1 ml/kg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(0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1 mg/kg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О МАКСИМАЛНО 0,3 ml (0,3 mg)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КОД ДЕЦЕ ОД 6 ДО 12 ГОДИНА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 ДО МАКСИМАЛНО 0,15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l (0,15 mg)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КОД ДЕЦЕ МЛАЂЕ ОД 6 ГОДИ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ЊЕКЦИЈА АДРЕНАЛИНА СЕ МОЖЕ ПОНАВЉАТИ НА ОКО 10 МИНУТА, У ЗАВИСНОСТИ ОД КРВНОГ ПРИТИСКА, ПУЛСА И ДИСАЊА ПАЦИЈЕНТ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7120" y="150012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00000"/>
                </a:solidFill>
                <a:latin typeface="Comic Sans MS"/>
              </a:rPr>
              <a:t>АДРЕНАЛИН ИНТРАВЕНСКИ 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ПРИМЕНИТИ САМО АКО НИЈЕ МОГУЋА ИНТРАМУСКУЛАРНА ПРИМЕНА, АКО ПОСТОЈЕ УСЛОВИ ДА СЕ ПАЦИЈЕНТ МОЖЕ ПАЖЉИВО ПРАТИТИ И АКО ЈЕ ОСОБА КОЈА ПРИМЕЊУЈЕ АДРЕНАЛИН ИСКУСН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51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АДРЕНАЛИН ЗА ИНТРАВЕНСКУ ПРИМЕНУ </a:t>
            </a:r>
            <a:r>
              <a:rPr b="1" lang="sr-CS" sz="1800" spc="-1" strike="noStrike">
                <a:solidFill>
                  <a:srgbClr val="c00000"/>
                </a:solidFill>
                <a:latin typeface="Comic Sans MS"/>
              </a:rPr>
              <a:t>МОРА БИТИ РАЗБЛАЖЕН 1:10,000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. ДОЗЕ АДРЕНАЛИНА ИНТРАВЕНСКИ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ОДРАСЛИ:  0,5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l 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РАЗБЛАЖЕНОГ РАСТВОРА АДРЕНАЛИНА (1:10,000), ШТО ИЗНОСИ 0,05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 АДРЕНАЛИНА; ДАТИ КАО СПОРУ ИНТРАВЕНСКУ ИЊЕКЦИЈУ, И ПОНАВЉАТИ НА 5 МИНУТА ПРЕМА ОДГОВОРУ КРВНОГ ПРИТИСКА, ПУЛСА И ДИСАЊА ПАЦИЈЕНТ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ДЕЦА: 0,01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l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g 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РАЗБЛАЖЕНОГ РАСТВОРА АДРЕНАЛИНА (1:10,000), ШТО ИЗНОСИ 0,001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g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 АДРЕНАЛИНА; ДАТИ КАО СПОРУ ИНТРАВЕНСКУ ИЊЕКЦИЈУ, И ПОНАВЉАТИ НА 5 МИНУТА ПРЕМА ОДГОВОРУ КРВНОГ ПРИТИСКА, ПУЛСА И ДИСАЊА ПАЦИЈЕНТ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004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ИМЕНИТИ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КИСЕОНИК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ПРЕКО МАСК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ЛИ НАЗАЛНОГ КАТЕТЕР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(28% КИСЕОНИК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4-8 ЛИТАРА У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ИНУТИ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ФИЗИОЛОШКИ РАСТВОР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ИМЕНИТ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НТРАВЕНСКИ, 50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l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ДРАСЛИМ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ИМА, А 2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l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g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ЕЦ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ХЛОРОПИРАМИН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NOPEN®)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ИМЕНИТИ ИНТРАМУСКУЛАРНО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 -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2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ОДРАСЛИМ ПАЦИЈЕНТИМА, ДЕЦИ ОД 6-12  ГОДИНА 5-1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ЕЦИ ОД 1 - 5 ГОДИНА 2,5-5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ЕЦИ ИСПОД 1 ГОДИНЕ СТАРОСТИ ТРЕБА ДАТИ 250 МИКРОГРАМА ПО КИЛОГРАМУ ТЕЛЕСНЕ ТЕЖИН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ХИДРОКОРТИЗОН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(ХИДРОКОРТИЗОН®) ПРИМЕНИТИ ИНТРАМУСКУЛАРНО ИЛИ СПОРО ИНТРАВЕНСК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- ОДРАСЛИ И ДЕЦА СТАРИЈА ОД 12 ГОДИНА, 20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- ДЕЦА ОД 6 ДО 12 ГОДИНА, 10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- ДЕЦА ОД 6 МЕСЕЦИ ДО 6 ГОДИНА, 5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- ДЕЦА МЛАЂА ОД 6 МЕСЕЦИ, 2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НТИБИОТИЦИ ДЕЛОТВОРНИ ПРОТИВ ИНФЕКЦИЈА ЗУБА И УСНЕ ДУПЉ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3840" y="20718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Wingdings 2"/>
                <a:ea typeface="Wingdings 2"/>
              </a:rPr>
              <a:t>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атегорије пацијената којима пре инвазивних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нтервенција у стоматологији треба дат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антибиотиску профилаксу су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и раније прележали инфективни бактеријски ендокардитис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и са вештачким валвулама на срцу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реуматско обољење срца у прошлости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и са урођеним аномалијама на срцу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85480" y="1714680"/>
            <a:ext cx="8643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олапс митралне валвуле са митралн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нсуфицијенцијом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исуство интравенских или интраартеријски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атетера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и у имуносупресији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и са вентрикуло-перитонеалним ил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вентрикуло-атријалним шантом због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хидроцефалуса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 још неке категориј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42876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НТИБИОТИЦИ ДЕЛОТВОРНИ ПРОТИВ ИНФЕКЦИЈА ЗУБА И УСНЕ ДУПЉ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НТИБИОТИЦИ ДЕЛОТВОРНИ ПРОТИВ ИНФЕКЦИЈА ЗУБА И УСНЕ ДУПЉ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87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Wingdings 2"/>
                <a:ea typeface="Wingdings 2"/>
              </a:rPr>
              <a:t>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тандардно у профилакси треба дати одраслом пацијенту 2 грама </a:t>
            </a:r>
            <a:r>
              <a:rPr b="0" lang="sr-CS" sz="2800" spc="-1" strike="noStrike">
                <a:solidFill>
                  <a:srgbClr val="c00000"/>
                </a:solidFill>
                <a:latin typeface="Comic Sans MS"/>
              </a:rPr>
              <a:t>амоксицилина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рално (деца 50 мг/кг) један сат пре операциј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Ако је пацијент алергичан на пеницилин, треба дати клиндамицин 600 мг орално (деца 20 мг/кг) један сат пре операције, или азитромицин 500 мг (деца 15 мг/кг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Када дати антибиотик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еке денталне инфекције (пулпитис, периапикални периодонтитис, локализовани дентоалвеоларни апсцес, гингивитис изазван плаком) не треба лечити антибиотицима, већ интервенцијама као што је инцизија, третман канала корена зуба или локална иригациј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 друге стране, теже инфекције као што су перикоронитис, латерални периодонтални апсцес и фацијални целулитис треба лечити и антибиотицима и хирурш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Избор антибио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тибиотик избора за инфекције зуба и усне дупље је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амоксицил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500 мг на 8 сати, орално. Код пацијената који су скоро примали антибиотике боље је дати амоксицилин са клавуланском киселином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ко је пацијент алергичан на пеницилин, лек избора је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клиндамиц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150 до 450 мг на 6 сати орално) или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метронидазол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200 мг на 8 сати. Ако пацијент има улцерозни гингивитис, перикоронитис или периодонтални апсцес, боље је применити метронидазол 250 мг на 8 са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Амоксицилин – структурна форму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548080" y="2637000"/>
            <a:ext cx="40478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КОВИТЕ МАСТИ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(Unguent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Лековите масти су житки лековити препарати за спољну употребу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Могу се наносити на кожу, слузокоже или површне ране (опекотине, огреботине и слично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Главни лек је помешан са подлогом (растворен, емулгован или суспендован) која је хидрофобна и под прстима даје исти осећај као да се додирује свињска мас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КОВИТЕ МАСТИ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(Unguent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28760" y="185724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Масти се најчешће примењују ради локалног дејства главног лек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Међутим, понекад се главни лек из масти апсорбује кроз кожу и испољава дејство другде у организму. Услов да би се то догоди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о јесте да главни лек буде довољно липосолубилан. Нитроглицерол, лек из групе нитрата који служи за лечење напада ангине пекторис, се може применити у виду масти јер се добро апсорбује кроз кожу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00000"/>
                </a:solidFill>
                <a:latin typeface="Comic Sans MS"/>
              </a:rPr>
              <a:t>Антибиотиц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500040" y="2071800"/>
            <a:ext cx="8358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тибиотици су хемијска једињења која стварају живи организми и која могу у малим концентрацијама да заустављају животне процесе микроорганизама (бактерија, рикеција, хламидија, гљивица, протозоа и вирус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ни се деле на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бактериостатик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антибиотици који спречавају раст бактерија, али их не уништавају) 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бактерицид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антибиотици који убијају бактериј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Масне подлог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Свињска маст (adeps suilu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Жути восак (cera flav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Бели восак (cera alb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Ворвањ (cetaceum, spermacet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Ланолин (cera lanae, adeps lanae, lanolinum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Ланалкол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(lanalcolum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ешавина стерола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алифатичних алкохол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7.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Жути вазелин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(vaselinum flavum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8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Бели вазелин (vaselinum album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9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Полиетиленгликол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0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ечни парафин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(paraffinum liquidu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1.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Цетостеарол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(cetostearolum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Прописивање маст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214200" y="2339640"/>
            <a:ext cx="892980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idi borici                               3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selini albi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d  10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sce fiat unguent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a ad scatul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. Споља, намазати оболела места три пута дне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* Маст са борном киселином има 3g борне киселин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H</a:t>
            </a:r>
            <a:r>
              <a:rPr b="0" lang="sv-SE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</a:t>
            </a:r>
            <a:r>
              <a:rPr b="0" lang="sv-SE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97g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елог вазелина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Прописивање пас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285840" y="1250640"/>
            <a:ext cx="885816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една од најчешће употребљаваних пасти је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Ласарова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аста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Lassar)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ја се употребљава као адстригенс и благи кератолитик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астав ове пасте је следећи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acidum salicylicum 2g, zinci oxydum 24g, talcum 24g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aselinum flavum 50g)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а је можемо прописати као магистрални лековити препарат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inci oxydi                             24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idi salicylici                          2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lci                                       24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selini flavi                           5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sce fiat unguent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a ad scatul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поља, два пута дневно намазати оболела места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Групе антибиоти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Бета-лакта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Тетрациклин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акролид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Хлорамфенико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Хинолон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Гликопептид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Аминогликозид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улфонамид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инезоли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етронидазо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Бактерициди и бактериостатиц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5880" y="1428840"/>
          <a:ext cx="7286400" cy="4779720"/>
        </p:xfrm>
        <a:graphic>
          <a:graphicData uri="http://schemas.openxmlformats.org/drawingml/2006/table">
            <a:tbl>
              <a:tblPr/>
              <a:tblGrid>
                <a:gridCol w="4064040"/>
                <a:gridCol w="3222360"/>
              </a:tblGrid>
              <a:tr h="5151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БАКТЕРИЦИ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БАКТЕРИОСТАТИ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еницил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Тетрацикл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3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Цефалоспор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Еритромици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ниске концентрациј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мипен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пектиномиц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миногликози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Линкомиц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5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Еритромици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високе концентрације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омбинација триметоприм- сулфаметоксаз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линдамиц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анкомиц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улфонами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Хиноло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Хлорамфеник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инцип</a:t>
            </a: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и п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имене антибиотика у стоматолошкој пракс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357120" y="1928880"/>
            <a:ext cx="83581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Антибиотике не треба примењиват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уколико нису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опход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Пре отпочињања примене антибиотика на основ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линичке дијагнозе увек треба узет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узорке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ноја, ексудата или инфицираних ткива 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лати их у микробиолошку лабораториј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Лек треба примењивати у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довољној доз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Једном започету терапију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не треба мењати бар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пре истека 3 да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колико је потребно да би с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очили први ефекти лечењ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инцип</a:t>
            </a: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и п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имене антибиотика у стоматолошкој пракс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00040" y="1857240"/>
            <a:ext cx="84297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Примену антибиотика треба да прат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дренаж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гнојних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лекција, ексцизија девитализованих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кива и отклањање страних те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. Када дође до клиничког излечења, терапију треб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ставити још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бар три дан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а би се спречи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циди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 Контраиндикована је истовремена примен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актерицидног и бактериостатског антибиотика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јер бактерицидни антибиотици делују само н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актерије које се деле, а бактериостатици баш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речавају деобу бактер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рофилактичка примена антибиоти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14240" y="207180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сновна идеја код профилактичке примене антибиотика је да се постигне бактерицидна концентрација антибиотика у крви болесника у тренутку када се очекује продор бактерија у тки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зложене тако високој концентрацији антибиотика, релативно малобројне бактерије које су продрле у ткива неће моћи тамо и да се одр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рофилакса код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Хируршких интервенциј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од реуматске грозниц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е вађења зуба или чишћења каменца код особа које су прележале ендокардити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сле спленектомиј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од укућана туберкулозног болесни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Slobodan Jankovic</cp:lastModifiedBy>
  <dcterms:modified xsi:type="dcterms:W3CDTF">2014-07-12T09:57:46Z</dcterms:modified>
  <cp:revision>154</cp:revision>
  <dc:subject/>
  <dc:title>Slide 1</dc:title>
</cp:coreProperties>
</file>